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5092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1480" cy="34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6D848-5979-4B9B-8E27-278CE8EA791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9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54F22-79C4-48A3-8418-83116B4C5B6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E2681-7C0C-47EB-A456-8D5A32BE695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9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C5411-464A-4FAF-B956-EF5880281DF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DCBAB-672C-4E5C-8329-AFDFE0B5B9E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9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C77B6-7319-4609-8DD0-38EAF799106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2405B-F552-45DB-A877-CDE63B3984B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9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7D6B1-52B6-4A92-89B2-31B63904252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0D5C3-4E45-430B-A8A1-FD0AFE90EA6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9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B53DB-B31C-44B4-930F-C584D4FC9F4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9F9ED-2DA1-4F24-918F-29FCBDD0473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9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D3B5DA-0CA8-4D16-AFC2-84565ABB5FB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5A1AB-DC3E-410C-A59D-66757E8379D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9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F688B-4E98-4962-AAE5-2114C0E3A26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8F35E-5818-41B8-B956-626CA330360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328AA-2747-4FD9-BEFB-C2EE27F348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316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8C90A-AAE5-4A4F-9E9A-A95E5E36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08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DF336-0F2E-4B0D-801E-489A5F26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24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0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24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0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B155F-1CA7-42D1-9BA6-BD15A8AC62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52182-C0F8-4B29-B029-7E7E7C6A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C8CF3-41DF-4B94-A414-F6E79862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4329B-8692-47DD-BAF0-45D804F3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BCEBC-A6D5-4993-84E7-368BBBAE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090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4D1FA-090C-40DC-A8ED-69B38C8DF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32437-F88F-4217-A9A7-F5566487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08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8E4CC-D5DF-44D1-A30C-C6805964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D0656-1EC7-4212-BB33-4C062361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12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132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C6C2F02-ACF5-4DFF-9605-D1AED9DD4D14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EL DESARROLLO EMBRION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984240" y="90360"/>
            <a:ext cx="8159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700" spc="-1" strike="noStrike">
                <a:solidFill>
                  <a:srgbClr val="333399"/>
                </a:solidFill>
                <a:latin typeface="Arial"/>
              </a:rPr>
              <a:t>El desarrollo embrionario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12"/>
          <p:cNvSpPr/>
          <p:nvPr/>
        </p:nvSpPr>
        <p:spPr>
          <a:xfrm>
            <a:off x="1042920" y="3787920"/>
            <a:ext cx="2087640" cy="108108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381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VÍPA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14"/>
          <p:cNvSpPr/>
          <p:nvPr/>
        </p:nvSpPr>
        <p:spPr>
          <a:xfrm>
            <a:off x="3490920" y="3787920"/>
            <a:ext cx="2087640" cy="108108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381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IVÍPA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17"/>
          <p:cNvSpPr/>
          <p:nvPr/>
        </p:nvSpPr>
        <p:spPr>
          <a:xfrm>
            <a:off x="5937120" y="3781440"/>
            <a:ext cx="2087640" cy="108108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381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VOVIVÍPA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324000" y="5516640"/>
            <a:ext cx="280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ulsa sobre cada recuadro para saber m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3492360" y="1125360"/>
            <a:ext cx="2087640" cy="107964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381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DESARROLLO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MBRION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" name="Agrupar 3"/>
          <p:cNvGrpSpPr/>
          <p:nvPr/>
        </p:nvGrpSpPr>
        <p:grpSpPr>
          <a:xfrm>
            <a:off x="2085840" y="2168640"/>
            <a:ext cx="4896000" cy="1628640"/>
            <a:chOff x="2085840" y="2168640"/>
            <a:chExt cx="4896000" cy="1628640"/>
          </a:xfrm>
        </p:grpSpPr>
        <p:sp>
          <p:nvSpPr>
            <p:cNvPr id="78" name="Freeform 7"/>
            <p:cNvSpPr/>
            <p:nvPr/>
          </p:nvSpPr>
          <p:spPr>
            <a:xfrm>
              <a:off x="2087280" y="3478680"/>
              <a:ext cx="4894560" cy="21960"/>
            </a:xfrm>
            <a:custGeom>
              <a:avLst/>
              <a:gdLst>
                <a:gd name="textAreaLeft" fmla="*/ 0 w 4894560"/>
                <a:gd name="textAreaRight" fmla="*/ 4894560 w 4894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596" h="63">
                  <a:moveTo>
                    <a:pt x="0" y="62"/>
                  </a:moveTo>
                  <a:lnTo>
                    <a:pt x="13595" y="0"/>
                  </a:lnTo>
                </a:path>
              </a:pathLst>
            </a:custGeom>
            <a:noFill/>
            <a:ln w="25560">
              <a:solidFill>
                <a:srgbClr val="2323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2085840" y="3489480"/>
              <a:ext cx="1440" cy="307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6" h="856">
                  <a:moveTo>
                    <a:pt x="0" y="855"/>
                  </a:moveTo>
                  <a:lnTo>
                    <a:pt x="5" y="0"/>
                  </a:lnTo>
                </a:path>
              </a:pathLst>
            </a:custGeom>
            <a:noFill/>
            <a:ln w="25560">
              <a:solidFill>
                <a:srgbClr val="2323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10"/>
            <p:cNvSpPr/>
            <p:nvPr/>
          </p:nvSpPr>
          <p:spPr>
            <a:xfrm>
              <a:off x="4533840" y="2168640"/>
              <a:ext cx="1440" cy="3934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5" h="1095">
                  <a:moveTo>
                    <a:pt x="0" y="0"/>
                  </a:moveTo>
                  <a:lnTo>
                    <a:pt x="4" y="1094"/>
                  </a:lnTo>
                </a:path>
              </a:pathLst>
            </a:custGeom>
            <a:noFill/>
            <a:ln w="25560">
              <a:solidFill>
                <a:srgbClr val="2323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16"/>
            <p:cNvSpPr/>
            <p:nvPr/>
          </p:nvSpPr>
          <p:spPr>
            <a:xfrm>
              <a:off x="6980400" y="3481560"/>
              <a:ext cx="1440" cy="307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6" h="856">
                  <a:moveTo>
                    <a:pt x="0" y="855"/>
                  </a:moveTo>
                  <a:lnTo>
                    <a:pt x="5" y="0"/>
                  </a:lnTo>
                </a:path>
              </a:pathLst>
            </a:custGeom>
            <a:noFill/>
            <a:ln w="25560">
              <a:solidFill>
                <a:srgbClr val="2323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21 CuadroTexto"/>
            <p:cNvSpPr/>
            <p:nvPr/>
          </p:nvSpPr>
          <p:spPr>
            <a:xfrm>
              <a:off x="2267280" y="2637000"/>
              <a:ext cx="453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egún dónde tiene lugar, los animales pueden s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10"/>
            <p:cNvSpPr/>
            <p:nvPr/>
          </p:nvSpPr>
          <p:spPr>
            <a:xfrm>
              <a:off x="4570200" y="3395520"/>
              <a:ext cx="1440" cy="3934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5" h="1095">
                  <a:moveTo>
                    <a:pt x="0" y="0"/>
                  </a:moveTo>
                  <a:lnTo>
                    <a:pt x="4" y="1094"/>
                  </a:lnTo>
                </a:path>
              </a:pathLst>
            </a:custGeom>
            <a:noFill/>
            <a:ln w="25560">
              <a:solidFill>
                <a:srgbClr val="2323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826920" y="1125360"/>
            <a:ext cx="770580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animales que nacen de huevos que la madre deposita en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medio ext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ste caso, el embrión se alimenta del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vitel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que es una reserva nutritiva propia de los hue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 finalizar el desarrollo, se produce la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eclos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la rotura d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nvoltura, tras la que el individuo sale al exteri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xisten dos tipos de huev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 cáscara: propios de animales de medios acuáticos, pues en el medio terrestre se desec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 cáscara: se depositan en tierra, pues no sufren desec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90000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nimales ovípa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2"/>
          <a:stretch/>
        </p:blipFill>
        <p:spPr>
          <a:xfrm>
            <a:off x="3995640" y="4724280"/>
            <a:ext cx="2519640" cy="1979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6516720" y="5084640"/>
            <a:ext cx="1979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os sapos son ovíparos, y ponen sus huevos en el agua, pues éstos carecen de cáscara y se desecan en tierr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984240" y="90360"/>
            <a:ext cx="8159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700" spc="-1" strike="noStrike">
                <a:solidFill>
                  <a:srgbClr val="333399"/>
                </a:solidFill>
                <a:latin typeface="Arial"/>
              </a:rPr>
              <a:t>El desarrollo embrionario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90000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Estructura del hue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2863800" y="1979640"/>
            <a:ext cx="2895480" cy="38163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1619280" y="2968560"/>
            <a:ext cx="9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Arial"/>
              </a:rPr>
              <a:t>Embr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Freeform 8"/>
          <p:cNvSpPr/>
          <p:nvPr/>
        </p:nvSpPr>
        <p:spPr>
          <a:xfrm>
            <a:off x="2268360" y="3246480"/>
            <a:ext cx="1106640" cy="722160"/>
          </a:xfrm>
          <a:custGeom>
            <a:avLst/>
            <a:gdLst>
              <a:gd name="textAreaLeft" fmla="*/ 0 w 1106640"/>
              <a:gd name="textAreaRight" fmla="*/ 1107000 w 1106640"/>
              <a:gd name="textAreaTop" fmla="*/ 0 h 722160"/>
              <a:gd name="textAreaBottom" fmla="*/ 722520 h 722160"/>
            </a:gdLst>
            <a:ahLst/>
            <a:rect l="textAreaLeft" t="textAreaTop" r="textAreaRight" b="textAreaBottom"/>
            <a:pathLst>
              <a:path w="3075" h="2007">
                <a:moveTo>
                  <a:pt x="0" y="0"/>
                </a:moveTo>
                <a:lnTo>
                  <a:pt x="3074" y="200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6300720" y="2133720"/>
            <a:ext cx="1395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Arial"/>
              </a:rPr>
              <a:t>Saco vitelino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á lleno de vitelo, que alimenta al embrió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Freeform 10"/>
          <p:cNvSpPr/>
          <p:nvPr/>
        </p:nvSpPr>
        <p:spPr>
          <a:xfrm>
            <a:off x="4713120" y="2697120"/>
            <a:ext cx="1594080" cy="1308240"/>
          </a:xfrm>
          <a:custGeom>
            <a:avLst/>
            <a:gdLst>
              <a:gd name="textAreaLeft" fmla="*/ 0 w 1594080"/>
              <a:gd name="textAreaRight" fmla="*/ 1594440 w 1594080"/>
              <a:gd name="textAreaTop" fmla="*/ 0 h 1308240"/>
              <a:gd name="textAreaBottom" fmla="*/ 1308600 h 1308240"/>
            </a:gdLst>
            <a:ahLst/>
            <a:rect l="textAreaLeft" t="textAreaTop" r="textAreaRight" b="textAreaBottom"/>
            <a:pathLst>
              <a:path w="4429" h="3635">
                <a:moveTo>
                  <a:pt x="4428" y="0"/>
                </a:moveTo>
                <a:lnTo>
                  <a:pt x="0" y="363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1557360" y="1368360"/>
            <a:ext cx="1935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Arial"/>
              </a:rPr>
              <a:t>Amnios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rma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cavidad amniótica, que está llena del líquido amniótico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 en que flota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embrió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Freeform 12"/>
          <p:cNvSpPr/>
          <p:nvPr/>
        </p:nvSpPr>
        <p:spPr>
          <a:xfrm>
            <a:off x="2863800" y="2313000"/>
            <a:ext cx="1087560" cy="754200"/>
          </a:xfrm>
          <a:custGeom>
            <a:avLst/>
            <a:gdLst>
              <a:gd name="textAreaLeft" fmla="*/ 0 w 1087560"/>
              <a:gd name="textAreaRight" fmla="*/ 1087920 w 108756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3022" h="2096">
                <a:moveTo>
                  <a:pt x="0" y="0"/>
                </a:moveTo>
                <a:lnTo>
                  <a:pt x="3021" y="209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539640" y="4292640"/>
            <a:ext cx="1935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Arial"/>
              </a:rPr>
              <a:t>Capas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actúan a modo de aparato excretor, recogiendo desechos, y a modo de aparato respiratorio, permitiendo expulsar CO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y recoger O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14"/>
          <p:cNvSpPr/>
          <p:nvPr/>
        </p:nvSpPr>
        <p:spPr>
          <a:xfrm>
            <a:off x="2341440" y="4853160"/>
            <a:ext cx="1079640" cy="25524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255240"/>
              <a:gd name="textAreaBottom" fmla="*/ 255600 h 255240"/>
            </a:gdLst>
            <a:ahLst/>
            <a:rect l="textAreaLeft" t="textAreaTop" r="textAreaRight" b="textAreaBottom"/>
            <a:pathLst>
              <a:path w="3000" h="710">
                <a:moveTo>
                  <a:pt x="0" y="709"/>
                </a:moveTo>
                <a:lnTo>
                  <a:pt x="299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6840360" y="3959280"/>
            <a:ext cx="1979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Arial"/>
              </a:rPr>
              <a:t>Cáscara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 protege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l embrión de la desecación, pero permite el paso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 O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y CO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Freeform 16"/>
          <p:cNvSpPr/>
          <p:nvPr/>
        </p:nvSpPr>
        <p:spPr>
          <a:xfrm>
            <a:off x="5654520" y="4375080"/>
            <a:ext cx="1192320" cy="131760"/>
          </a:xfrm>
          <a:custGeom>
            <a:avLst/>
            <a:gdLst>
              <a:gd name="textAreaLeft" fmla="*/ 0 w 1192320"/>
              <a:gd name="textAreaRight" fmla="*/ 1192680 w 119232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3313" h="367">
                <a:moveTo>
                  <a:pt x="3312" y="366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7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984240" y="90360"/>
            <a:ext cx="8159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700" spc="-1" strike="noStrike">
                <a:solidFill>
                  <a:srgbClr val="333399"/>
                </a:solidFill>
                <a:latin typeface="Arial"/>
              </a:rPr>
              <a:t>El desarrollo embrionario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934920" y="1347840"/>
            <a:ext cx="727236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animales que se desarrollan dentro del útero d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d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embrión se alimenta de nutrientes que la madre le aporta a través de la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placent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que une a amb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 finalizar el desarrollo, se produce la salida al exterior mediante el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part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vivíparos todos los mamíferos menos los monotremas (ornitorrincos y equidnas) y algunos tibur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900000" y="836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nimales vivípa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2"/>
          <a:stretch/>
        </p:blipFill>
        <p:spPr>
          <a:xfrm>
            <a:off x="2160720" y="4140360"/>
            <a:ext cx="5029200" cy="22604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7199280" y="5500800"/>
            <a:ext cx="16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jabalí es un ejemplo de animal vivípar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984240" y="90360"/>
            <a:ext cx="8159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700" spc="-1" strike="noStrike">
                <a:solidFill>
                  <a:srgbClr val="333399"/>
                </a:solidFill>
                <a:latin typeface="Arial"/>
              </a:rPr>
              <a:t>El desarrollo embrionario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2879640" y="2340000"/>
            <a:ext cx="2879640" cy="30607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El embrión en los animales vivípa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979640" y="1852560"/>
            <a:ext cx="9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Arial"/>
              </a:rPr>
              <a:t>Embr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Freeform 8"/>
          <p:cNvSpPr/>
          <p:nvPr/>
        </p:nvSpPr>
        <p:spPr>
          <a:xfrm>
            <a:off x="2587680" y="2130480"/>
            <a:ext cx="950760" cy="969840"/>
          </a:xfrm>
          <a:custGeom>
            <a:avLst/>
            <a:gdLst>
              <a:gd name="textAreaLeft" fmla="*/ 0 w 950760"/>
              <a:gd name="textAreaRight" fmla="*/ 951120 w 950760"/>
              <a:gd name="textAreaTop" fmla="*/ 0 h 969840"/>
              <a:gd name="textAreaBottom" fmla="*/ 970200 h 969840"/>
            </a:gdLst>
            <a:ahLst/>
            <a:rect l="textAreaLeft" t="textAreaTop" r="textAreaRight" b="textAreaBottom"/>
            <a:pathLst>
              <a:path w="2642" h="2695">
                <a:moveTo>
                  <a:pt x="0" y="0"/>
                </a:moveTo>
                <a:lnTo>
                  <a:pt x="2641" y="269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6840360" y="4319640"/>
            <a:ext cx="1548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Arial"/>
              </a:rPr>
              <a:t>Placenta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extrae nutrientes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ara el embrión de la sangre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 la madr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Freeform 10"/>
          <p:cNvSpPr/>
          <p:nvPr/>
        </p:nvSpPr>
        <p:spPr>
          <a:xfrm>
            <a:off x="5022720" y="4081320"/>
            <a:ext cx="1787760" cy="754200"/>
          </a:xfrm>
          <a:custGeom>
            <a:avLst/>
            <a:gdLst>
              <a:gd name="textAreaLeft" fmla="*/ 0 w 1787760"/>
              <a:gd name="textAreaRight" fmla="*/ 1788120 w 178776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4967" h="2096">
                <a:moveTo>
                  <a:pt x="4966" y="209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1320840" y="4319640"/>
            <a:ext cx="155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Arial"/>
              </a:rPr>
              <a:t>Cordón umbilical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une al embrión con la placen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12"/>
          <p:cNvSpPr/>
          <p:nvPr/>
        </p:nvSpPr>
        <p:spPr>
          <a:xfrm>
            <a:off x="2879640" y="3349800"/>
            <a:ext cx="1582920" cy="127476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1274760"/>
              <a:gd name="textAreaBottom" fmla="*/ 1275120 h 1274760"/>
            </a:gdLst>
            <a:ahLst/>
            <a:rect l="textAreaLeft" t="textAreaTop" r="textAreaRight" b="textAreaBottom"/>
            <a:pathLst>
              <a:path w="4398" h="3542">
                <a:moveTo>
                  <a:pt x="0" y="3541"/>
                </a:moveTo>
                <a:lnTo>
                  <a:pt x="439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5519880" y="1641600"/>
            <a:ext cx="1935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Arial"/>
              </a:rPr>
              <a:t>Amnios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forma la cavidad amniótica, donde está el líquido amniótico en el que flota el embrió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Freeform 14"/>
          <p:cNvSpPr/>
          <p:nvPr/>
        </p:nvSpPr>
        <p:spPr>
          <a:xfrm>
            <a:off x="4519440" y="2340000"/>
            <a:ext cx="936720" cy="522360"/>
          </a:xfrm>
          <a:custGeom>
            <a:avLst/>
            <a:gdLst>
              <a:gd name="textAreaLeft" fmla="*/ 0 w 936720"/>
              <a:gd name="textAreaRight" fmla="*/ 937080 w 93672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2603" h="1452">
                <a:moveTo>
                  <a:pt x="2602" y="0"/>
                </a:moveTo>
                <a:lnTo>
                  <a:pt x="0" y="145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15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984240" y="90360"/>
            <a:ext cx="8159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700" spc="-1" strike="noStrike">
                <a:solidFill>
                  <a:srgbClr val="333399"/>
                </a:solidFill>
                <a:latin typeface="Arial"/>
              </a:rPr>
              <a:t>El desarrollo embrionario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1081080" y="3511440"/>
            <a:ext cx="7199280" cy="296856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934920" y="1347840"/>
            <a:ext cx="727236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animales que se desarrollan en el interior de un huevo, pero la madre lo retiene en su interior hasta la eclos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embrión se alimenta del vitelo y se produce la eclosión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 término del desarrollo, igual que en animales ovípa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cría sale viva del interior de la mad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gunos tiburones, las víboras y ciertos insectos son ejemplos de animales ovovivípa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900000" y="836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nimales ovovivípa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7343640" y="568008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uchos tiburones son ovovivípar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984240" y="90360"/>
            <a:ext cx="8159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700" spc="-1" strike="noStrike">
                <a:solidFill>
                  <a:srgbClr val="333399"/>
                </a:solidFill>
                <a:latin typeface="Arial"/>
              </a:rPr>
              <a:t>El desarrollo embrionario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jose luis</cp:lastModifiedBy>
  <dcterms:modified xsi:type="dcterms:W3CDTF">2012-11-26T17:24:21Z</dcterms:modified>
  <cp:revision>53</cp:revision>
  <dc:subject/>
  <dc:title>Diapositiva 1</dc:title>
</cp:coreProperties>
</file>